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7B6-7D80-44C3-A9E3-5BC97303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B3F-3A12-4B42-B0B3-4BEBA0B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8F5-D016-4AC9-9167-6BC5387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EE0-64B9-4D41-9E57-EFFE4053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CA4-B44B-4ACD-82E2-7AC6DAC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E77-C144-4525-9F5C-2BE1E4D3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B79-CC63-4DFD-A13A-BD68943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B15-691C-4BC3-AF1F-4F9D6378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73D-607D-4DE0-A1F2-1E92D69D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36D-D313-47E6-B652-502716B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459-4B5B-45A8-91A4-69AA731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38A-715C-4CAB-A3E6-9DE25E2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245-C9FD-442F-ADE6-4D242A5657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5CEF-4BDE-436A-970A-1C30F2A817A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nitin.com/grademark3/index.asp?svr=13&amp;session-id=b5ea6afd28c2374205cd3105061674d0&amp;r=1256572462291&amp;oid=97644469&amp;lang=en_u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1960" y="4143240"/>
            <a:ext cx="492912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ff"/>
                </a:solidFill>
                <a:latin typeface="Calibri"/>
              </a:rPr>
              <a:t>Turnitin</a:t>
            </a:r>
            <a:br>
              <a:rPr sz="5400"/>
            </a:b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Emerging Technology </a:t>
            </a:r>
            <a:br>
              <a:rPr sz="3400"/>
            </a:br>
            <a:r>
              <a:rPr b="1" lang="fr-CA" sz="3400" spc="-1" strike="noStrike">
                <a:solidFill>
                  <a:srgbClr val="ffffff"/>
                </a:solidFill>
                <a:latin typeface="Calibri"/>
              </a:rPr>
              <a:t>Amy Shad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Picture 2.png"/>
          <p:cNvPicPr/>
          <p:nvPr/>
        </p:nvPicPr>
        <p:blipFill>
          <a:blip r:embed="rId2"/>
          <a:srcRect l="0" t="-130942" r="0" b="-13094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9" descr="Picture 3.png"/>
          <p:cNvPicPr/>
          <p:nvPr/>
        </p:nvPicPr>
        <p:blipFill>
          <a:blip r:embed="rId2"/>
          <a:srcRect l="-6820" t="0" r="-682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9" descr="Picture 3.png"/>
          <p:cNvPicPr/>
          <p:nvPr/>
        </p:nvPicPr>
        <p:blipFill>
          <a:blip r:embed="rId2"/>
          <a:stretch/>
        </p:blipFill>
        <p:spPr>
          <a:xfrm>
            <a:off x="457200" y="3139920"/>
            <a:ext cx="82296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9" descr="Picture 3.png"/>
          <p:cNvPicPr/>
          <p:nvPr/>
        </p:nvPicPr>
        <p:blipFill>
          <a:blip r:embed="rId2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9" descr="Picture 3.png"/>
          <p:cNvPicPr/>
          <p:nvPr/>
        </p:nvPicPr>
        <p:blipFill>
          <a:blip r:embed="rId2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Picture 3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0:27:17Z</dcterms:created>
  <dc:creator>Admin</dc:creator>
  <dc:description/>
  <dc:language>en-US</dc:language>
  <cp:lastModifiedBy>PA Department of Education Classrooms for the Future</cp:lastModifiedBy>
  <dcterms:modified xsi:type="dcterms:W3CDTF">2009-10-26T22:09:46Z</dcterms:modified>
  <cp:revision>25</cp:revision>
  <dc:subject/>
  <dc:title>PRESENTATION  NAME</dc:title>
</cp:coreProperties>
</file>